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64C-C0FA-4FE4-904D-381CB790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0DE-23B8-4D2C-856D-02111F4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ECA-4F2D-4D49-9C63-655E2C34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825-D799-4ABC-AEFA-1D46EF7B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249-C2ED-426E-8F5E-59D75AA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585-4A89-49AF-B2A0-AB7A156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489-AF92-4AE1-923C-BD00D28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5E0-B228-44EA-AECB-D27887B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B50-C913-4239-8793-8A37B50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396-9B53-4AC8-AE11-7F67F28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451-D591-4E7F-BB96-1E65A27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9CB-45C2-466D-9F87-4EA2A03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9CE-EF50-4C02-A089-40DAD86194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REALIGNMENTS IN THE 1890’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nic of 189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120" y="1676520"/>
            <a:ext cx="800100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uary, 1893: Industrial balloon p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ors sell stock to purchase 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eted Treasury (of gold) shakes confidence plummets U.S. into worst depression in U.S. hist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falls into a state of upheaval and des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er strikes, Pullman riots, Coxey army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ericans accepted the need for government intervention to help the poor and job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esidential Election of 18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ndidate:  William Jennings Bry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ee coinage of silver the main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ratio of silver to gold at 16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st the money su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n as solution to de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lverites believed amount in circulation determined level of economic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ses election because eastern press favored McKinl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didate:  William McKin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sed gold standard to restore prospe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promote economic prosperity BUT a need to regulate and control the effects of industrializ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VI7233437"/>
          <p:cNvPicPr/>
          <p:nvPr/>
        </p:nvPicPr>
        <p:blipFill>
          <a:blip r:embed="rId1"/>
          <a:stretch/>
        </p:blipFill>
        <p:spPr>
          <a:xfrm>
            <a:off x="1981080" y="685800"/>
            <a:ext cx="5357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look of Party Politics 1870’s-1890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crats emphasize state’s rights and limited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ublicans see government as agent to promote moral progress and material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influence wanes, state control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eme Court makes land mark decisions in regard to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nn v. Illino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(1877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bash case (1886) prompts establishment of Interstate Commerce Commission (I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90 is the first billion dollar Con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IVI7233TB2001"/>
          <p:cNvPicPr/>
          <p:nvPr/>
        </p:nvPicPr>
        <p:blipFill>
          <a:blip r:embed="rId1"/>
          <a:srcRect l="0" t="15700" r="0" b="0"/>
          <a:stretch/>
        </p:blipFill>
        <p:spPr>
          <a:xfrm>
            <a:off x="304920" y="2209680"/>
            <a:ext cx="85341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8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TB2002"/>
          <p:cNvPicPr/>
          <p:nvPr/>
        </p:nvPicPr>
        <p:blipFill>
          <a:blip r:embed="rId1"/>
          <a:srcRect l="0" t="12350" r="0" b="0"/>
          <a:stretch/>
        </p:blipFill>
        <p:spPr>
          <a:xfrm>
            <a:off x="304920" y="2057400"/>
            <a:ext cx="86104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VI7233423"/>
          <p:cNvPicPr/>
          <p:nvPr/>
        </p:nvPicPr>
        <p:blipFill>
          <a:blip r:embed="rId1"/>
          <a:stretch/>
        </p:blipFill>
        <p:spPr>
          <a:xfrm>
            <a:off x="1828800" y="609480"/>
            <a:ext cx="536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iffs, Trusts and Sil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McKinley Tariff raises duties to historic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s Pension Act: By 1893, 1 million receiving pensions from union arm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Sherman Anti-Trust Act regulates big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.S. vs. E.C. Kn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rifies that law does not apply to manufactur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Sherman Silver Purchase Act moves country toward bi-metallic moneta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ise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ist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76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ntented farmers of West and South provide base of sup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’ compl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prices for crops (although purchasing power risin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ing railroad rates (rates actually decli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densome mortgages (loans permit production expa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of farmers vary by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feeling of depression, rese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ast-Grow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pulist Par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560"/>
            <a:ext cx="8229600" cy="53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1880’s two powerful groups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Alliance and Industrial Union (Southern Alli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thwestern Alliance (National Farmers Allianc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ala Demands become Populist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of government warehouses to hold crops for higher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coinage of sil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ari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income 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election of Sena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ion of 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VI7233428"/>
          <p:cNvPicPr/>
          <p:nvPr/>
        </p:nvPicPr>
        <p:blipFill>
          <a:blip r:embed="rId1"/>
          <a:stretch/>
        </p:blipFill>
        <p:spPr>
          <a:xfrm>
            <a:off x="2286000" y="609480"/>
            <a:ext cx="4621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8:02Z</dcterms:created>
  <dc:creator>HstM3</dc:creator>
  <dc:description/>
  <cp:keywords/>
  <dc:language>en-US</dc:language>
  <cp:lastModifiedBy>Thaddeus J. Brooks</cp:lastModifiedBy>
  <cp:lastPrinted>2012-09-11T10:32:31Z</cp:lastPrinted>
  <dcterms:modified xsi:type="dcterms:W3CDTF">2013-10-28T14:14:52Z</dcterms:modified>
  <cp:revision>22</cp:revision>
  <dc:subject/>
  <dc:title>POLITICAL REALIGNMENTS IN THE 1890s</dc:title>
</cp:coreProperties>
</file>